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C0E-A813-407B-AFE4-B6975E30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0AA-ECB9-4DA9-BB4C-D51EE998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EFA-26D4-4A9A-B5A0-E00264050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CBC-F789-44CF-BF90-C20EF414A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08B-D5FE-4299-92AB-3EF6CF3F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22A-214C-4464-93EC-AA7AA99E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0F3-DBEF-4693-A596-DC7BF36E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3FE5-8450-4D7C-A16C-3F6B0EC1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854-9E0B-446C-ACEC-8220CC9A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ADF-2445-43B1-A39B-4263E734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6197-10A9-4CA3-A080-9BB79264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33E-6B03-4AD9-BC1F-E4169B1A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4C48-36D6-48C8-9BE1-37D3D83B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03280" y="952560"/>
            <a:ext cx="73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Comic Sans MS"/>
              </a:rPr>
              <a:t>Экология как нау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опия ecology"/>
          <p:cNvPicPr/>
          <p:nvPr/>
        </p:nvPicPr>
        <p:blipFill>
          <a:blip r:embed="rId1"/>
          <a:stretch/>
        </p:blipFill>
        <p:spPr>
          <a:xfrm>
            <a:off x="6227640" y="3213000"/>
            <a:ext cx="2025720" cy="16527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8"/>
          <p:cNvSpPr/>
          <p:nvPr/>
        </p:nvSpPr>
        <p:spPr>
          <a:xfrm rot="1091400">
            <a:off x="5866920" y="2997360"/>
            <a:ext cx="26434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03280" y="9810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067280" y="1773360"/>
            <a:ext cx="4363920" cy="327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2484360" y="5661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1692360" y="134136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124000" y="18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5364000" y="2637000"/>
            <a:ext cx="352908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1403280" y="2276640"/>
            <a:ext cx="3816360" cy="201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2700360" y="4508640"/>
            <a:ext cx="388764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763640" y="3860640"/>
            <a:ext cx="6840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30920" y="2997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802560" y="299736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7020000" y="1917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692360" y="2565360"/>
            <a:ext cx="6840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403280" y="1341360"/>
            <a:ext cx="77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332000" y="83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547640" y="148428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500720" y="3645000"/>
            <a:ext cx="381636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32000" y="9079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43280" y="2060640"/>
            <a:ext cx="426708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403280" y="1052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95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Admin</cp:lastModifiedBy>
  <dcterms:modified xsi:type="dcterms:W3CDTF">2013-03-04T16:18:06Z</dcterms:modified>
  <cp:revision>18</cp:revision>
  <dc:subject/>
  <dc:title>Экология Рядом!</dc:title>
</cp:coreProperties>
</file>